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LES DU BATIMENT « BASSE ENERGIE » PAR C. IN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OURN2ES MAINTENANCE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NGERS, 22 MAI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60280"/>
            <a:ext cx="6622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307360" y="6308640"/>
            <a:ext cx="80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85DF-9014-4898-8BD3-63F2A48F9C39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6237360"/>
            <a:ext cx="8734320" cy="14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4"/>
          <p:cNvSpPr/>
          <p:nvPr/>
        </p:nvSpPr>
        <p:spPr>
          <a:xfrm>
            <a:off x="8734320" y="6237360"/>
            <a:ext cx="409680" cy="144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476360" y="6229440"/>
            <a:ext cx="6551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boratoire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de des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énomènes de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ansfert et de l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stantanéité :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gro-industrie et 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âtiment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Université de La Rochelle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52720" y="53672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C. IN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cc0066"/>
                </a:solidFill>
                <a:latin typeface="Arial"/>
              </a:rPr>
              <a:t>E. Bozonne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23880" y="206064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Etudes aérauliques multi-échell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appliquées au bâti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23" descr="Logo_ULR"/>
          <p:cNvPicPr/>
          <p:nvPr/>
        </p:nvPicPr>
        <p:blipFill>
          <a:blip r:embed="rId1"/>
          <a:stretch/>
        </p:blipFill>
        <p:spPr>
          <a:xfrm>
            <a:off x="179280" y="44280"/>
            <a:ext cx="1198800" cy="119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2843280" y="0"/>
            <a:ext cx="380988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5"/>
          <p:cNvSpPr/>
          <p:nvPr/>
        </p:nvSpPr>
        <p:spPr>
          <a:xfrm>
            <a:off x="1547640" y="37926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CFD et aéraulique urbaine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quelques règ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Image 8" descr="LEPTIAB_2008_normal.jpg"/>
          <p:cNvPicPr/>
          <p:nvPr/>
        </p:nvPicPr>
        <p:blipFill>
          <a:blip r:embed="rId3"/>
          <a:stretch/>
        </p:blipFill>
        <p:spPr>
          <a:xfrm>
            <a:off x="7524720" y="44280"/>
            <a:ext cx="1238400" cy="1197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0" y="126828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daf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600200" y="108756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ces latérales et supérieur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763640" y="2852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rti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49640" y="1628640"/>
            <a:ext cx="563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omposante normale de la vitesse nul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 des composantes tangentielles nu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268360" y="3500280"/>
            <a:ext cx="61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s nuls ou pression statique fixé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63640" y="4255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ois des bâtiments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320920" y="5013360"/>
            <a:ext cx="61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oi de paroi lisse ou rugueu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00200" y="10875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 : loi de paroi intégrant une hauteur de rugosité de type grain de s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726160" cy="3908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6159600" y="2149560"/>
                <a:ext cx="2765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6438960" y="3078000"/>
                <a:ext cx="2170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6356520" y="4005360"/>
                <a:ext cx="240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8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16"/>
          <p:cNvSpPr/>
          <p:nvPr/>
        </p:nvSpPr>
        <p:spPr>
          <a:xfrm>
            <a:off x="5148360" y="4941720"/>
            <a:ext cx="3887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 = 5,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hauteur de rugosité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~ 30 z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standard : k surestimée dans les zones stagnantes (séparation, inversion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sultats parfois légèrement meilleurs avec RNG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ou S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férer les modèles non linéaires pour une modélisation non isotrope du tenseur de Reynolds (ASM, RSM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donne en général de bons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2195640" y="905040"/>
            <a:ext cx="6121440" cy="4539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79280" y="56246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Vitesses adimensionnées par les vitesses sans bâtiments (Yoshie et al., 2007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ET PUIS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rdre pour les termes advectifs et les dérivées tempor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ditions initial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champ de vitesse à l’entrée appliqué à tout le domaine ou calcul lami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temp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dt = CFL dx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CFL : nombre de Courant-Friedrichs-Lew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ergenc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résidus &lt;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4000" y="3068640"/>
            <a:ext cx="61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MERCI POUR VOTRE ATTEN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16200" y="1052640"/>
            <a:ext cx="67881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FD de plus en plus utilisé pour modéliser l’aéraulique urb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mbreux paramètres physiques et numériques agissent sur la qualité de la sol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ille du do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discrét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ères de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s de turbu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ditions aux limit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DES GROUPES DE TRAVAIL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16200" y="836640"/>
            <a:ext cx="6788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an Cooperation in the field of Scientific Technical Research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C14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Impact of wind and storms on city life and built environment, CFD Techniques (2004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costc14.bh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73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Quality assurance of microscale meterological models (2009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mi.uni.hamburg.de/COST-732.464.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king Group of Architectural Institute of Japan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J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aij.or.jp/jpn/publish/cfdguide/index_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1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4365720"/>
            <a:ext cx="9144000" cy="18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2349360"/>
            <a:ext cx="9144000" cy="201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5840" y="304920"/>
            <a:ext cx="7850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AS TRAITES PAR Architectural Institute of Jap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790640" cy="10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6902280" y="1123920"/>
            <a:ext cx="148608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755640" y="25495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156360" y="2637000"/>
            <a:ext cx="2303280" cy="134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449800" cy="133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5894280" y="4462560"/>
            <a:ext cx="26384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851280" y="1052640"/>
            <a:ext cx="1933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547640" y="0"/>
            <a:ext cx="759636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49640" y="304920"/>
            <a:ext cx="563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TAILLE DU DOMAI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800360" y="907920"/>
            <a:ext cx="6443640" cy="3980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908000" y="515772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ur un ensemble de bâtiments : H = Hma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efficient de blocage inférieur à 3%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4920" y="4149720"/>
            <a:ext cx="3324240" cy="1776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9840" y="115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24000" y="620640"/>
            <a:ext cx="68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xaèdres au lieu de tétraèdres ou prismes autour des bâtiments + tétraèd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cellules minimum entre deux bât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ones à fort gradient : coefficient d’expansion des mailles inférieur à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rifier la non dépendance du maillage sur la sol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ST : 3 maillages avec un rapport de 3,4 pour le nombre de mailles à chaque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J : 3 maillages avec u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pport de 1,5 pour les cellu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es trois directions à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que foi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,5x1,5x1,5 = 3,3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89080" y="1523880"/>
            <a:ext cx="3130560" cy="1833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5008680" cy="252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2195640" y="3789360"/>
            <a:ext cx="5346720" cy="1752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539640" y="5695920"/>
            <a:ext cx="79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pplication de la règle 1,5 (expérience en soufflerie), Yoshie et al., 2007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62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COST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1873080" y="1606680"/>
                <a:ext cx="26607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Rectangle 12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3"/>
              <p:cNvSpPr txBox="1"/>
              <p:nvPr/>
            </p:nvSpPr>
            <p:spPr>
              <a:xfrm>
                <a:off x="5410080" y="1449360"/>
                <a:ext cx="24987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5"/>
              <p:cNvSpPr txBox="1"/>
              <p:nvPr/>
            </p:nvSpPr>
            <p:spPr>
              <a:xfrm>
                <a:off x="2508120" y="2963880"/>
                <a:ext cx="1532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0,5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7"/>
              <p:cNvSpPr txBox="1"/>
              <p:nvPr/>
            </p:nvSpPr>
            <p:spPr>
              <a:xfrm>
                <a:off x="5641920" y="3032280"/>
                <a:ext cx="2035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9"/>
          <p:cNvSpPr/>
          <p:nvPr/>
        </p:nvSpPr>
        <p:spPr>
          <a:xfrm>
            <a:off x="1692360" y="4221000"/>
            <a:ext cx="3887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nstante de Karman = 0,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= 0,0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longueur de rugosité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AIJ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1990800" y="1535040"/>
                <a:ext cx="21366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5410080" y="1773360"/>
                <a:ext cx="242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106720" y="2781360"/>
                <a:ext cx="24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5460840" y="2793960"/>
                <a:ext cx="2829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1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1892160" y="4057560"/>
                <a:ext cx="2909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Text Box 16"/>
          <p:cNvSpPr/>
          <p:nvPr/>
        </p:nvSpPr>
        <p:spPr>
          <a:xfrm>
            <a:off x="1692360" y="52117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(z) profil d’intensité turbule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mmanuel Bozonnet</cp:lastModifiedBy>
  <cp:lastPrinted>2007-11-03T10:42:41Z</cp:lastPrinted>
  <dcterms:modified xsi:type="dcterms:W3CDTF">2011-05-03T12:36:53Z</dcterms:modified>
  <cp:revision>470</cp:revision>
  <dc:subject/>
  <dc:title>LABORATOIRE d’ETUDE DES PHENOMENES DE TRANSFERT APPLIQUES AU BATIMENT </dc:title>
</cp:coreProperties>
</file>