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png" ContentType="image/png"/>
  <Override PartName="/ppt/media/image16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9320" y="471312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LES DU BATIMENT « BASSE ENERGIE » PAR C. IN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OURN2ES MAINTENANCE DUR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NGERS, 22 MAI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76000" y="260280"/>
            <a:ext cx="6622920" cy="49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2"/>
          <p:cNvSpPr/>
          <p:nvPr/>
        </p:nvSpPr>
        <p:spPr>
          <a:xfrm>
            <a:off x="8307360" y="6308640"/>
            <a:ext cx="80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61E7-931C-4264-9840-B9BBA8757F06}" type="slidenum">
              <a:rPr b="0" lang="en-GB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3"/>
          <p:cNvSpPr/>
          <p:nvPr/>
        </p:nvSpPr>
        <p:spPr>
          <a:xfrm>
            <a:off x="0" y="6237360"/>
            <a:ext cx="8734320" cy="1440"/>
          </a:xfrm>
          <a:prstGeom prst="line">
            <a:avLst/>
          </a:prstGeom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Line 4"/>
          <p:cNvSpPr/>
          <p:nvPr/>
        </p:nvSpPr>
        <p:spPr>
          <a:xfrm>
            <a:off x="8734320" y="6237360"/>
            <a:ext cx="409680" cy="144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1476360" y="6229440"/>
            <a:ext cx="6551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boratoire</a:t>
            </a: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ude des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énomènes de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ansfert et de l’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stantanéité :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gro-industrie et  </a:t>
            </a:r>
            <a:r>
              <a:rPr b="0" lang="en-GB" sz="1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âtiment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Université de La Rochelle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62292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52720" y="53672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66"/>
                </a:solidFill>
                <a:latin typeface="Arial"/>
              </a:rPr>
              <a:t>C. INARD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cc0066"/>
                </a:solidFill>
                <a:latin typeface="Arial"/>
              </a:rPr>
              <a:t>E. Bozonne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1523880" y="206064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Etudes aérauliques multi-échelle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"/>
              </a:rPr>
              <a:t>appliquées au bâtimen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23" descr="Logo_ULR"/>
          <p:cNvPicPr/>
          <p:nvPr/>
        </p:nvPicPr>
        <p:blipFill>
          <a:blip r:embed="rId1"/>
          <a:stretch/>
        </p:blipFill>
        <p:spPr>
          <a:xfrm>
            <a:off x="179280" y="44280"/>
            <a:ext cx="1198800" cy="1198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2843280" y="0"/>
            <a:ext cx="3809880" cy="12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5"/>
          <p:cNvSpPr/>
          <p:nvPr/>
        </p:nvSpPr>
        <p:spPr>
          <a:xfrm>
            <a:off x="1547640" y="3792600"/>
            <a:ext cx="701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CFD et aéraulique urbaine 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Arial"/>
              </a:rPr>
              <a:t>quelques règ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Image 8" descr="LEPTIAB_2008_normal.jpg"/>
          <p:cNvPicPr/>
          <p:nvPr/>
        </p:nvPicPr>
        <p:blipFill>
          <a:blip r:embed="rId3"/>
          <a:stretch/>
        </p:blipFill>
        <p:spPr>
          <a:xfrm>
            <a:off x="7524720" y="44280"/>
            <a:ext cx="1238400" cy="1197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0" y="126828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daf1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600200" y="1087560"/>
            <a:ext cx="563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aces latérales et supérieur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763640" y="285264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rtie du domaine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249640" y="1628640"/>
            <a:ext cx="563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Composante normale de la vitesse nul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 des composantes tangentielles nu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2268360" y="3500280"/>
            <a:ext cx="61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Gradients nuls ou pression statique fixé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63640" y="4255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rois des bâtiments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320920" y="5013360"/>
            <a:ext cx="613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oi de paroi lisse ou rugueus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600200" y="10875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ol : loi de paroi intégrant une hauteur de rugosité de type grain de sabl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5726160" cy="3908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6159600" y="2149560"/>
                <a:ext cx="27651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z</m:t>
                            </m:r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Δ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3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12"/>
              <p:cNvSpPr txBox="1"/>
              <p:nvPr/>
            </p:nvSpPr>
            <p:spPr>
              <a:xfrm>
                <a:off x="6438960" y="3078000"/>
                <a:ext cx="2170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τ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υ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t xml:space="preserve">3,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356520" y="4005360"/>
                <a:ext cx="24080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8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16"/>
          <p:cNvSpPr/>
          <p:nvPr/>
        </p:nvSpPr>
        <p:spPr>
          <a:xfrm>
            <a:off x="5148360" y="4941720"/>
            <a:ext cx="388764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 = 5,2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l-G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hauteur de rugosité (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~ 30 z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standard : k surestimée dans les zones stagnantes (séparation, inversion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sultats parfois légèrement meilleurs avec RNG k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ou S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référer les modèles non linéaires pour une modélisation non isotrope du tenseur de Reynolds (ASM, RSM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donne en général de bons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ODELES DE TURBULE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2195640" y="905040"/>
            <a:ext cx="6121440" cy="453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179280" y="56246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Vitesses adimensionnées par les vitesses sans bâtiments (Yoshie et al., 2007)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ET PUIS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6200" y="1769760"/>
            <a:ext cx="678816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2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ordre pour les termes advectifs et les dérivées tempor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ditions initial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champ de vitesse à l’entrée appliqué à tout le domaine ou calcul lami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temp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dt = CFL dx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U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(CFL : nombre de Courant-Friedrichs-Lew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vergenc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résidus &lt; 10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24000" y="3068640"/>
            <a:ext cx="612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MERCI POUR VOTRE ATTEN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16200" y="1052640"/>
            <a:ext cx="67881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FD de plus en plus utilisé pour modéliser l’aéraulique urb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mbreux paramètres physiques et numériques agissent sur la qualité de la solu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aille du do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l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chémas de discrét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ritères de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èles de turbu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ditions aux limit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DES GROUPES DE TRAVAIL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16200" y="836640"/>
            <a:ext cx="6788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uropean Cooperation in the field of Scientific Technical Research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C14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 Impact of wind and storms on city life and built environment, CFD Techniques (2004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costc14.bham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ion 73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 Quality assurance of microscale meterological models (2009)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mi.uni.hamburg.de/COST-732.464.0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king Group of Architectural Institute of Japan (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IJ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400"/>
              </a:spcBef>
              <a:buClr>
                <a:srgbClr val="ff6600"/>
              </a:buClr>
              <a:buFont typeface="Wingdings" charset="2"/>
              <a:buChar char="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008,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http://www.aij.or.jp/jpn/publish/cfdguide/index_e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4365720"/>
            <a:ext cx="9144000" cy="18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0" y="2349360"/>
            <a:ext cx="9144000" cy="2016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5840" y="304920"/>
            <a:ext cx="7850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AS TRAITES PAR Architectural Institute of Japa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1790640" cy="1057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6902280" y="1123920"/>
            <a:ext cx="1486080" cy="105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755640" y="254952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156360" y="2637000"/>
            <a:ext cx="2303280" cy="1349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5"/>
          <a:stretch/>
        </p:blipFill>
        <p:spPr>
          <a:xfrm>
            <a:off x="900000" y="4508640"/>
            <a:ext cx="2449800" cy="133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6"/>
          <a:stretch/>
        </p:blipFill>
        <p:spPr>
          <a:xfrm>
            <a:off x="5894280" y="4462560"/>
            <a:ext cx="2638440" cy="134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7"/>
          <a:stretch/>
        </p:blipFill>
        <p:spPr>
          <a:xfrm>
            <a:off x="3851280" y="1052640"/>
            <a:ext cx="19335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547640" y="0"/>
            <a:ext cx="759636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49640" y="304920"/>
            <a:ext cx="5635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TAILLE DU DOMAI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1800360" y="907920"/>
            <a:ext cx="6443640" cy="3980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1908000" y="5157720"/>
            <a:ext cx="6629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our un ensemble de bâtiments : H = Hmax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efficient de blocage inférieur à 3%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1547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4920" y="4149720"/>
            <a:ext cx="3324240" cy="1776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9840" y="115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24000" y="620640"/>
            <a:ext cx="6840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exaèdres au lieu de tétraèdres ou prismes autour des bâtiments + tétraèd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 cellules minimum entre deux bât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Zones à fort gradient : coefficient d’expansion des mailles inférieur à 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buClr>
                <a:srgbClr val="ff6600"/>
              </a:buClr>
              <a:buFont typeface="Wingdings" charset="2"/>
              <a:buChar char="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érifier la non dépendance du maillage sur la solutio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ST : 3 maillages avec un rapport de 3,4 pour le nombre de mailles à chaque f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6600"/>
              </a:buClr>
              <a:buFont typeface="Wingdings" charset="2"/>
              <a:buChar char="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IJ : 3 maillages avec u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pport de 1,5 pour les cellule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les trois directions à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aque foi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1,5x1,5x1,5 = 3,3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6"/>
          <p:cNvSpPr/>
          <p:nvPr/>
        </p:nvSpPr>
        <p:spPr>
          <a:xfrm>
            <a:off x="0" y="0"/>
            <a:ext cx="9144000" cy="623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MAILLAG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89080" y="1523880"/>
            <a:ext cx="3130560" cy="1833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635280" y="1125360"/>
            <a:ext cx="5008680" cy="252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2195640" y="3789360"/>
            <a:ext cx="5346720" cy="17524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9"/>
          <p:cNvSpPr/>
          <p:nvPr/>
        </p:nvSpPr>
        <p:spPr>
          <a:xfrm>
            <a:off x="539640" y="5695920"/>
            <a:ext cx="799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pplication de la règle 1,5 (expérience en soufflerie), Yoshie et al., 2007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62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COST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9"/>
              <p:cNvSpPr txBox="1"/>
              <p:nvPr/>
            </p:nvSpPr>
            <p:spPr>
              <a:xfrm>
                <a:off x="1873080" y="1606680"/>
                <a:ext cx="266076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</m:num>
                      <m:den>
                        <m:r>
                          <m:t xml:space="preserve">κ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" name="Rectangle 12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3"/>
              <p:cNvSpPr txBox="1"/>
              <p:nvPr/>
            </p:nvSpPr>
            <p:spPr>
              <a:xfrm>
                <a:off x="5410080" y="1449360"/>
                <a:ext cx="24987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κ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5"/>
              <p:cNvSpPr txBox="1"/>
              <p:nvPr/>
            </p:nvSpPr>
            <p:spPr>
              <a:xfrm>
                <a:off x="2508120" y="2963880"/>
                <a:ext cx="153216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μ</m:t>
                            </m:r>
                          </m:sub>
                          <m:sup>
                            <m:r>
                              <m:t xml:space="preserve">0,5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7"/>
              <p:cNvSpPr txBox="1"/>
              <p:nvPr/>
            </p:nvSpPr>
            <p:spPr>
              <a:xfrm>
                <a:off x="5641920" y="3032280"/>
                <a:ext cx="20350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 Box 19"/>
          <p:cNvSpPr/>
          <p:nvPr/>
        </p:nvSpPr>
        <p:spPr>
          <a:xfrm>
            <a:off x="1692360" y="4221000"/>
            <a:ext cx="38876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nstante de Karman = 0,4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= 0,0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longueur de rugosité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vitesse de frottement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0920" y="304920"/>
            <a:ext cx="49528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CONDITIONS AUX LIMIT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600200" y="838080"/>
            <a:ext cx="361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trée du domaine (AIJ) 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1990800" y="1535040"/>
                <a:ext cx="21366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8"/>
              <p:cNvSpPr txBox="1"/>
              <p:nvPr/>
            </p:nvSpPr>
            <p:spPr>
              <a:xfrm>
                <a:off x="5410080" y="1773360"/>
                <a:ext cx="24289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106720" y="2781360"/>
                <a:ext cx="2411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Rectangle 1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5460840" y="2793960"/>
                <a:ext cx="2829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15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1892160" y="4057560"/>
                <a:ext cx="29098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0,5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z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8" name="Text Box 16"/>
          <p:cNvSpPr/>
          <p:nvPr/>
        </p:nvSpPr>
        <p:spPr>
          <a:xfrm>
            <a:off x="1692360" y="521172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(z) profil d’intensité turbulente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mmanuel Bozonnet</cp:lastModifiedBy>
  <cp:lastPrinted>2007-11-03T10:42:41Z</cp:lastPrinted>
  <dcterms:modified xsi:type="dcterms:W3CDTF">2011-05-03T12:36:53Z</dcterms:modified>
  <cp:revision>470</cp:revision>
  <dc:subject/>
  <dc:title>LABORATOIRE d’ETUDE DES PHENOMENES DE TRANSFERT APPLIQUES AU BATIMENT </dc:title>
</cp:coreProperties>
</file>